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203480"/>
            <a:ext cx="518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number you call fr an emergency when you are out of 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55720" y="298944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vo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u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isn't a 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900000" y="2960640"/>
            <a:ext cx="24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85800" y="12034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emperature does your body need to drop below for you to get hypother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973080" y="296064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re body temp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900000" y="2946240"/>
            <a:ext cx="26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rui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tabbing p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329080" y="60357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ins and nee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isn't a symp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3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914400" y="306216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u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reath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black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dr.abcd what does b stan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957240" y="29750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ea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i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A stand for in dr.ABC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001880" y="301932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i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>
            <a:off x="22309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m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5800" y="1203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is not an item that can trigger an asthma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 fi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 fi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 h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8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85800" y="12034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performing cpr how many hands/fingers should be on an inf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3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 fin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 every 5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33520" y="6095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 every 4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 every 1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 every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normal breathing 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every 4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 h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 h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 fi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3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85800" y="1203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hands should you use when you perform cpr on an ad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3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 h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feeling s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feeling f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952880" y="609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ins and nee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is a 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6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7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7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87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5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96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104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2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9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37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ouch there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2034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not a way to see if someone is brea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89000" y="3019320"/>
            <a:ext cx="24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uch there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0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0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28: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32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cpr rate for every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73080" y="3005280"/>
            <a:ext cx="25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30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3 of c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¼ of c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½ of c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2/3 of c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depth of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44720" y="30621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/3 of c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de&amp;t</cp:lastModifiedBy>
  <dcterms:modified xsi:type="dcterms:W3CDTF">2009-11-25T00:11:45Z</dcterms:modified>
  <cp:revision>18</cp:revision>
  <dc:subject/>
  <dc:title>No Slide Title</dc:title>
</cp:coreProperties>
</file>